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11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8.png" ContentType="image/png"/>
  <Override PartName="/ppt/media/image1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8.png" ContentType="image/png"/>
  <Override PartName="/ppt/media/image15.jpeg" ContentType="image/jpeg"/>
  <Override PartName="/ppt/media/image19.png" ContentType="image/png"/>
  <Override PartName="/ppt/media/image3.jpeg" ContentType="image/jpeg"/>
  <Override PartName="/ppt/media/image17.png" ContentType="image/png"/>
  <Override PartName="/ppt/media/image4.jpeg" ContentType="image/jpeg"/>
  <Override PartName="/ppt/media/image2.png" ContentType="image/png"/>
  <Override PartName="/ppt/media/image5.jpeg" ContentType="image/jpeg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6276E-2BDA-4F34-9A99-E9DC6D8F38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4920" y="188640"/>
            <a:ext cx="89647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af18"/>
              </a:solidFill>
              <a:latin typeface="Papyru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7854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638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79280" y="4055400"/>
            <a:ext cx="87854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63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071AC-E974-4EA2-A2A6-66AD2C8C5D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920" y="188640"/>
            <a:ext cx="89647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af18"/>
              </a:solidFill>
              <a:latin typeface="Papyru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42872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638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440" y="1197000"/>
            <a:ext cx="42872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638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79280" y="4055400"/>
            <a:ext cx="42872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638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1440" y="4055400"/>
            <a:ext cx="42872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63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F76EF-253C-44E3-9343-C92F5B0494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920" y="188640"/>
            <a:ext cx="89647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af18"/>
              </a:solidFill>
              <a:latin typeface="Papyru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28285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638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49640" y="1197000"/>
            <a:ext cx="28285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638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0000" y="1197000"/>
            <a:ext cx="28285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638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79280" y="4055400"/>
            <a:ext cx="28285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638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49640" y="4055400"/>
            <a:ext cx="28285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638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20000" y="4055400"/>
            <a:ext cx="28285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63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965C2-CB46-47FD-A116-35D076FA24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39E0D0-9389-4D60-A1D3-532A267ADC3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4920" y="188640"/>
            <a:ext cx="89647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af18"/>
              </a:solidFill>
              <a:latin typeface="Papyru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79280" y="1197000"/>
            <a:ext cx="878544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63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D1E5FE-CE5C-41E9-AFE5-3DD0D863EBA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920" y="188640"/>
            <a:ext cx="89647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af18"/>
              </a:solidFill>
              <a:latin typeface="Papyru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78544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63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8005F2-6A11-4789-A3C7-47CBE43AB72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4920" y="188640"/>
            <a:ext cx="89647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af18"/>
              </a:solidFill>
              <a:latin typeface="Papyru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428724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638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81440" y="1197000"/>
            <a:ext cx="428724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63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6B8165-EC46-4CC2-8319-C4014F2A550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4920" y="188640"/>
            <a:ext cx="89647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af18"/>
              </a:solidFill>
              <a:latin typeface="Papyru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A1451A-809C-4B42-B915-31C5C2434E3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34920" y="188640"/>
            <a:ext cx="896472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956BAE-8DDF-46E3-9FD6-0009F0470BC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4920" y="188640"/>
            <a:ext cx="89647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af18"/>
              </a:solidFill>
              <a:latin typeface="Papyru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42872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638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1440" y="1197000"/>
            <a:ext cx="428724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638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79280" y="4055400"/>
            <a:ext cx="42872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63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A5808D-A319-43E8-88A6-920F963B99B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4920" y="188640"/>
            <a:ext cx="89647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af18"/>
              </a:solidFill>
              <a:latin typeface="Papyru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79280" y="1197000"/>
            <a:ext cx="878544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63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C6BBC-652F-4286-944A-F9758590D9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4920" y="188640"/>
            <a:ext cx="89647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af18"/>
              </a:solidFill>
              <a:latin typeface="Papyru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428724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638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1440" y="1197000"/>
            <a:ext cx="42872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638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81440" y="4055400"/>
            <a:ext cx="42872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63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3C40C2-F91A-47DA-9E05-B296C46D5E2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920" y="188640"/>
            <a:ext cx="89647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af18"/>
              </a:solidFill>
              <a:latin typeface="Papyru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42872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638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1440" y="1197000"/>
            <a:ext cx="42872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638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79280" y="4055400"/>
            <a:ext cx="87854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63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9640E5-8F9A-44FC-BE63-5719CC44440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4920" y="188640"/>
            <a:ext cx="89647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af18"/>
              </a:solidFill>
              <a:latin typeface="Papyru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7854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638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79280" y="4055400"/>
            <a:ext cx="87854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63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1E263F-CB17-42DF-9DC1-CD9B9B33835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920" y="188640"/>
            <a:ext cx="89647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af18"/>
              </a:solidFill>
              <a:latin typeface="Papyru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42872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638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1440" y="1197000"/>
            <a:ext cx="42872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638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79280" y="4055400"/>
            <a:ext cx="42872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638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81440" y="4055400"/>
            <a:ext cx="42872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63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76FE64-6316-46E0-AA8C-79A0177888C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920" y="188640"/>
            <a:ext cx="89647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af18"/>
              </a:solidFill>
              <a:latin typeface="Papyru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28285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638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149640" y="1197000"/>
            <a:ext cx="28285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638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120000" y="1197000"/>
            <a:ext cx="28285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638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79280" y="4055400"/>
            <a:ext cx="28285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638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149640" y="4055400"/>
            <a:ext cx="28285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638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120000" y="4055400"/>
            <a:ext cx="28285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63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C6CBAA-0AA7-438D-BAC0-CEE84A412FD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920" y="188640"/>
            <a:ext cx="89647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af18"/>
              </a:solidFill>
              <a:latin typeface="Papyru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78544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63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94E0B-18AC-4B8A-83A8-F9DC68ED7B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920" y="188640"/>
            <a:ext cx="89647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af18"/>
              </a:solidFill>
              <a:latin typeface="Papyru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428724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638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1440" y="1197000"/>
            <a:ext cx="428724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63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0710B-53A0-4605-918C-EDC4F0428D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4920" y="188640"/>
            <a:ext cx="89647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af18"/>
              </a:solidFill>
              <a:latin typeface="Papyru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92836-D9A8-47FF-9CCE-EF78C54212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4920" y="188640"/>
            <a:ext cx="896472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18DD5-5635-430E-BB66-EC8061A88A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920" y="188640"/>
            <a:ext cx="89647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af18"/>
              </a:solidFill>
              <a:latin typeface="Papyru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42872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638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1440" y="1197000"/>
            <a:ext cx="428724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638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79280" y="4055400"/>
            <a:ext cx="42872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63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60AB3-A7FA-4BDF-AA16-199B51C8C2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4920" y="188640"/>
            <a:ext cx="89647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af18"/>
              </a:solidFill>
              <a:latin typeface="Papyru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428724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638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1440" y="1197000"/>
            <a:ext cx="42872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638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1440" y="4055400"/>
            <a:ext cx="42872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63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80CA7-970C-43D1-8784-441BFD4366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4920" y="188640"/>
            <a:ext cx="89647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af18"/>
              </a:solidFill>
              <a:latin typeface="Papyru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42872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638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1440" y="1197000"/>
            <a:ext cx="42872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638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79280" y="4055400"/>
            <a:ext cx="87854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63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C215B-349A-4C45-A701-939D508F3E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c754f"/>
            </a:gs>
            <a:gs pos="100000">
              <a:srgbClr val="18605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920" y="188640"/>
            <a:ext cx="89647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af18"/>
                </a:solidFill>
                <a:latin typeface="Papyrus"/>
              </a:rPr>
              <a:t>Click to edit the title text format</a:t>
            </a:r>
            <a:endParaRPr b="1" lang="en-US" sz="3600" spc="-1" strike="noStrike">
              <a:solidFill>
                <a:srgbClr val="ffaf18"/>
              </a:solidFill>
              <a:latin typeface="Papyru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1197000"/>
            <a:ext cx="878544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63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63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e63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e63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63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e63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e63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63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e63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e6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63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e63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e63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63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e63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63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e63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63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e638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884720" y="6244920"/>
            <a:ext cx="801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BC39B-E0AD-4150-8E19-1F07A237C070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c754f"/>
            </a:gs>
            <a:gs pos="100000">
              <a:srgbClr val="18605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af18"/>
                </a:solidFill>
                <a:latin typeface="Papyrus"/>
              </a:rPr>
              <a:t>Click to edit the title text format</a:t>
            </a:r>
            <a:endParaRPr b="1" lang="en-US" sz="3600" spc="-1" strike="noStrike">
              <a:solidFill>
                <a:srgbClr val="ffaf18"/>
              </a:solidFill>
              <a:latin typeface="Papyru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ldNum" idx="2"/>
          </p:nvPr>
        </p:nvSpPr>
        <p:spPr>
          <a:xfrm>
            <a:off x="8028000" y="6244920"/>
            <a:ext cx="658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9E9B2-4BDF-4FB3-96F4-BE2F8790DE63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63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e638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63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e638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e638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638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e638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e63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e638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e638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e638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e638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e638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e638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e638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e638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e63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c754f"/>
            </a:gs>
            <a:gs pos="100000">
              <a:srgbClr val="18605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af18"/>
                </a:solidFill>
                <a:latin typeface="Papyrus"/>
              </a:rPr>
              <a:t>Is Secondary Economic Activity different in LEDCs?</a:t>
            </a:r>
            <a:endParaRPr b="1" lang="en-US" sz="3600" spc="-1" strike="noStrike">
              <a:solidFill>
                <a:srgbClr val="ffaf18"/>
              </a:solidFill>
              <a:latin typeface="Papyru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63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6B3885-0320-4FB8-96E0-907B2C47F63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c754f"/>
            </a:gs>
            <a:gs pos="100000">
              <a:srgbClr val="18605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4920" y="188640"/>
            <a:ext cx="89647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af18"/>
                </a:solidFill>
                <a:latin typeface="Papyrus"/>
              </a:rPr>
              <a:t>Water collection</a:t>
            </a:r>
            <a:endParaRPr b="1" lang="en-US" sz="3600" spc="-1" strike="noStrike">
              <a:solidFill>
                <a:srgbClr val="ffaf18"/>
              </a:solidFill>
              <a:latin typeface="Papyru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36007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e63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638"/>
                </a:solidFill>
                <a:latin typeface="Arial"/>
              </a:rPr>
              <a:t>This treadle pump is an example of an </a:t>
            </a:r>
            <a:r>
              <a:rPr b="1" lang="en-US" sz="2800" spc="-1" strike="noStrike">
                <a:solidFill>
                  <a:srgbClr val="ed181e"/>
                </a:solidFill>
                <a:latin typeface="Arial"/>
              </a:rPr>
              <a:t>intermediate</a:t>
            </a:r>
            <a:r>
              <a:rPr b="0" lang="en-US" sz="2400" spc="-1" strike="noStrike">
                <a:solidFill>
                  <a:srgbClr val="ffe638"/>
                </a:solidFill>
                <a:latin typeface="Arial"/>
              </a:rPr>
              <a:t> technology solution</a:t>
            </a:r>
            <a:endParaRPr b="0" lang="en-US" sz="2400" spc="-1" strike="noStrike">
              <a:solidFill>
                <a:srgbClr val="ffe63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e63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638"/>
                </a:solidFill>
                <a:latin typeface="Arial"/>
              </a:rPr>
              <a:t>Low cost, small scale, and very useful. </a:t>
            </a:r>
            <a:endParaRPr b="0" lang="en-US" sz="2400" spc="-1" strike="noStrike">
              <a:solidFill>
                <a:srgbClr val="ffe63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e63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638"/>
                </a:solidFill>
                <a:latin typeface="Arial"/>
              </a:rPr>
              <a:t>It was designed and constructed by an NGO. </a:t>
            </a:r>
            <a:endParaRPr b="0" lang="en-US" sz="2400" spc="-1" strike="noStrike">
              <a:solidFill>
                <a:srgbClr val="ffe63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e63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638"/>
                </a:solidFill>
                <a:latin typeface="Arial"/>
              </a:rPr>
              <a:t>It allows one person to collect enough water in a couple hours work to irrigate fields for several days. </a:t>
            </a:r>
            <a:endParaRPr b="0" lang="en-US" sz="2400" spc="-1" strike="noStrike">
              <a:solidFill>
                <a:srgbClr val="ffe638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924360" y="981000"/>
            <a:ext cx="5111640" cy="4029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C04AF-372C-4D94-AAF9-A8CCB9EBDA2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c754f"/>
            </a:gs>
            <a:gs pos="100000">
              <a:srgbClr val="18605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4920" y="189000"/>
            <a:ext cx="89647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af18"/>
                </a:solidFill>
                <a:latin typeface="Papyrus"/>
              </a:rPr>
              <a:t>Ideas on Intermediate Technology</a:t>
            </a:r>
            <a:endParaRPr b="1" lang="en-US" sz="3600" spc="-1" strike="noStrike">
              <a:solidFill>
                <a:srgbClr val="ffaf18"/>
              </a:solidFill>
              <a:latin typeface="Papyru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87854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63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638"/>
                </a:solidFill>
                <a:latin typeface="Arial"/>
              </a:rPr>
              <a:t>People may view intermediate technologies as transitional, on the way to industrial solutions. In other words, intermediate technologies would not an end in themselves but a means to the industrial end.</a:t>
            </a:r>
            <a:endParaRPr b="0" lang="en-US" sz="3200" spc="-1" strike="noStrike">
              <a:solidFill>
                <a:srgbClr val="ffe63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63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638"/>
                </a:solidFill>
                <a:latin typeface="Arial"/>
              </a:rPr>
              <a:t>why transition into Industrial can be a good thing?</a:t>
            </a:r>
            <a:endParaRPr b="0" lang="en-US" sz="3200" spc="-1" strike="noStrike">
              <a:solidFill>
                <a:srgbClr val="ffe63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63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638"/>
                </a:solidFill>
                <a:latin typeface="Arial"/>
              </a:rPr>
              <a:t>Maybe the big brick factories can make lots more bricks at lower overall cost, which in turn can create more/better housing.</a:t>
            </a:r>
            <a:endParaRPr b="0" lang="en-US" sz="3200" spc="-1" strike="noStrike">
              <a:solidFill>
                <a:srgbClr val="ffe63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FAA84-D7EE-49DE-BFB0-CBB3297D051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c754f"/>
            </a:gs>
            <a:gs pos="100000">
              <a:srgbClr val="18605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4920" y="189000"/>
            <a:ext cx="89647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af18"/>
                </a:solidFill>
                <a:latin typeface="Papyrus"/>
              </a:rPr>
              <a:t>Ideas on Intermediate Technology</a:t>
            </a:r>
            <a:endParaRPr b="1" lang="en-US" sz="3600" spc="-1" strike="noStrike">
              <a:solidFill>
                <a:srgbClr val="ffaf18"/>
              </a:solidFill>
              <a:latin typeface="Papyru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87854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e63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638"/>
                </a:solidFill>
                <a:latin typeface="Arial"/>
              </a:rPr>
              <a:t>But why might it be good to consider an Intermediate Technology to be a worthy end in itself?</a:t>
            </a:r>
            <a:endParaRPr b="0" lang="en-US" sz="2400" spc="-1" strike="noStrike">
              <a:solidFill>
                <a:srgbClr val="ffe63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e63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638"/>
                </a:solidFill>
                <a:latin typeface="Arial"/>
              </a:rPr>
              <a:t>Matches local skill levels</a:t>
            </a:r>
            <a:endParaRPr b="0" lang="en-US" sz="2400" spc="-1" strike="noStrike">
              <a:solidFill>
                <a:srgbClr val="ffe63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e63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638"/>
                </a:solidFill>
                <a:latin typeface="Arial"/>
              </a:rPr>
              <a:t>Matches rural demand and cost structures</a:t>
            </a:r>
            <a:endParaRPr b="0" lang="en-US" sz="2400" spc="-1" strike="noStrike">
              <a:solidFill>
                <a:srgbClr val="ffe63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e63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638"/>
                </a:solidFill>
                <a:latin typeface="Arial"/>
              </a:rPr>
              <a:t>Creates more jobs than industrial solutions</a:t>
            </a:r>
            <a:endParaRPr b="0" lang="en-US" sz="2400" spc="-1" strike="noStrike">
              <a:solidFill>
                <a:srgbClr val="ffe63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e63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638"/>
                </a:solidFill>
                <a:latin typeface="Arial"/>
              </a:rPr>
              <a:t>Producing locally  is more sustainable  and is often a better match for size and portability needs of developing countries.</a:t>
            </a:r>
            <a:endParaRPr b="0" lang="en-US" sz="2400" spc="-1" strike="noStrike">
              <a:solidFill>
                <a:srgbClr val="ffe63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e63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638"/>
                </a:solidFill>
                <a:latin typeface="Arial"/>
              </a:rPr>
              <a:t>Doesn’t fuel rural-to-urban migration, which is a pitfall of the large scale of industrial technologies.</a:t>
            </a:r>
            <a:endParaRPr b="0" lang="en-US" sz="2400" spc="-1" strike="noStrike">
              <a:solidFill>
                <a:srgbClr val="ffe63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e63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638"/>
                </a:solidFill>
                <a:latin typeface="Arial"/>
              </a:rPr>
              <a:t>Because Intermediate Technology is a smaller step from the base indigenous technology, it allows other aspects of infrastructure (roads, distribution, raw material resources) to evolve together in proportion.</a:t>
            </a:r>
            <a:endParaRPr b="0" lang="en-US" sz="2400" spc="-1" strike="noStrike">
              <a:solidFill>
                <a:srgbClr val="ffe63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e63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638"/>
                </a:solidFill>
                <a:latin typeface="Arial"/>
              </a:rPr>
              <a:t>The lower cost of Intermediate Technology allows more people to step readily into the entrepreneur/ownership role.</a:t>
            </a:r>
            <a:endParaRPr b="0" lang="en-US" sz="2400" spc="-1" strike="noStrike">
              <a:solidFill>
                <a:srgbClr val="ffe63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e63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772CC-F2BD-4F08-B324-61B2EE1E87A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c754f"/>
            </a:gs>
            <a:gs pos="100000">
              <a:srgbClr val="18605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af18"/>
                </a:solidFill>
                <a:latin typeface="Papyrus"/>
              </a:rPr>
              <a:t>Ideas have moved on a bit since then</a:t>
            </a:r>
            <a:endParaRPr b="1" lang="en-US" sz="3600" spc="-1" strike="noStrike">
              <a:solidFill>
                <a:srgbClr val="ffaf18"/>
              </a:solidFill>
              <a:latin typeface="Papyru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2852280"/>
            <a:ext cx="6400800" cy="27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638"/>
                </a:solidFill>
                <a:latin typeface="Arial"/>
              </a:rPr>
              <a:t>We tend more to talk about appropriate technology</a:t>
            </a:r>
            <a:endParaRPr b="0" lang="en-US" sz="3200" spc="-1" strike="noStrike">
              <a:solidFill>
                <a:srgbClr val="ffe638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638"/>
                </a:solidFill>
                <a:latin typeface="Arial"/>
              </a:rPr>
              <a:t>It is similar in many ways, but takes more account of the place in which it is practiced</a:t>
            </a:r>
            <a:endParaRPr b="0" lang="en-US" sz="3200" spc="-1" strike="noStrike">
              <a:solidFill>
                <a:srgbClr val="ffe63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ABF0BA-BFF4-4F44-AEE1-DE8498BBC5B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c754f"/>
            </a:gs>
            <a:gs pos="100000">
              <a:srgbClr val="18605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4920" y="188640"/>
            <a:ext cx="89647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af18"/>
                </a:solidFill>
                <a:latin typeface="Papyrus"/>
              </a:rPr>
              <a:t>What are appropriate technologies?</a:t>
            </a:r>
            <a:endParaRPr b="1" lang="en-US" sz="3600" spc="-1" strike="noStrike">
              <a:solidFill>
                <a:srgbClr val="ffaf18"/>
              </a:solidFill>
              <a:latin typeface="Papyru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3640" y="1125000"/>
            <a:ext cx="856908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e6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638"/>
                </a:solidFill>
                <a:latin typeface="Arial"/>
              </a:rPr>
              <a:t>low in capitol costs</a:t>
            </a:r>
            <a:endParaRPr b="0" lang="en-US" sz="2800" spc="-1" strike="noStrike">
              <a:solidFill>
                <a:srgbClr val="ffe638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1749"/>
              </a:spcBef>
              <a:buClr>
                <a:srgbClr val="ffe638"/>
              </a:buClr>
              <a:buSzPct val="9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638"/>
                </a:solidFill>
                <a:latin typeface="Arial"/>
              </a:rPr>
              <a:t>uses local materials as much as possible</a:t>
            </a:r>
            <a:endParaRPr b="0" lang="en-US" sz="2800" spc="-1" strike="noStrike">
              <a:solidFill>
                <a:srgbClr val="ffe638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1749"/>
              </a:spcBef>
              <a:buClr>
                <a:srgbClr val="ffe638"/>
              </a:buClr>
              <a:buSzPct val="9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638"/>
                </a:solidFill>
                <a:latin typeface="Arial"/>
              </a:rPr>
              <a:t>creates jobs</a:t>
            </a:r>
            <a:endParaRPr b="0" lang="en-US" sz="2800" spc="-1" strike="noStrike">
              <a:solidFill>
                <a:srgbClr val="ffe638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1749"/>
              </a:spcBef>
              <a:buClr>
                <a:srgbClr val="ffe638"/>
              </a:buClr>
              <a:buSzPct val="9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638"/>
                </a:solidFill>
                <a:latin typeface="Arial"/>
              </a:rPr>
              <a:t>small scale</a:t>
            </a:r>
            <a:endParaRPr b="0" lang="en-US" sz="2800" spc="-1" strike="noStrike">
              <a:solidFill>
                <a:srgbClr val="ffe638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749"/>
              </a:spcBef>
              <a:buClr>
                <a:srgbClr val="ffe638"/>
              </a:buClr>
              <a:buSzPct val="9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638"/>
                </a:solidFill>
                <a:latin typeface="Arial"/>
              </a:rPr>
              <a:t>can be understood, maintained and repaired locally</a:t>
            </a:r>
            <a:endParaRPr b="0" lang="en-US" sz="2800" spc="-1" strike="noStrike">
              <a:solidFill>
                <a:srgbClr val="ffe638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749"/>
              </a:spcBef>
              <a:buClr>
                <a:srgbClr val="ffe638"/>
              </a:buClr>
              <a:buSzPct val="9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638"/>
                </a:solidFill>
                <a:latin typeface="Arial"/>
              </a:rPr>
              <a:t>uses decentralized, renewable energy sources</a:t>
            </a:r>
            <a:endParaRPr b="0" lang="en-US" sz="2800" spc="-1" strike="noStrike">
              <a:solidFill>
                <a:srgbClr val="ffe638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749"/>
              </a:spcBef>
              <a:buClr>
                <a:srgbClr val="ffe638"/>
              </a:buClr>
              <a:buSzPct val="9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638"/>
                </a:solidFill>
                <a:latin typeface="Arial"/>
              </a:rPr>
              <a:t>Sustainable</a:t>
            </a:r>
            <a:endParaRPr b="0" lang="en-US" sz="2800" spc="-1" strike="noStrike">
              <a:solidFill>
                <a:srgbClr val="ffe638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749"/>
              </a:spcBef>
              <a:buClr>
                <a:srgbClr val="ffe638"/>
              </a:buClr>
              <a:buSzPct val="9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e638"/>
                </a:solidFill>
                <a:latin typeface="Arial"/>
              </a:rPr>
              <a:t>Culturally acceptable</a:t>
            </a:r>
            <a:endParaRPr b="0" lang="en-US" sz="2800" spc="-1" strike="noStrike">
              <a:solidFill>
                <a:srgbClr val="ffe638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749"/>
              </a:spcBef>
              <a:buClr>
                <a:srgbClr val="ffe638"/>
              </a:buClr>
              <a:buSzPct val="9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e638"/>
                </a:solidFill>
                <a:latin typeface="Arial"/>
              </a:rPr>
              <a:t>Durability</a:t>
            </a:r>
            <a:endParaRPr b="0" lang="en-US" sz="2800" spc="-1" strike="noStrike">
              <a:solidFill>
                <a:srgbClr val="ffe63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51737-15FE-4AD9-9CC8-AB3F8ACEC34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c754f"/>
            </a:gs>
            <a:gs pos="100000">
              <a:srgbClr val="18605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4920" y="188640"/>
            <a:ext cx="89647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af18"/>
                </a:solidFill>
                <a:latin typeface="Papyrus"/>
              </a:rPr>
              <a:t>The Pot-in-Pot</a:t>
            </a:r>
            <a:endParaRPr b="1" lang="en-US" sz="3600" spc="-1" strike="noStrike">
              <a:solidFill>
                <a:srgbClr val="ffaf18"/>
              </a:solidFill>
              <a:latin typeface="Papyrus"/>
            </a:endParaRPr>
          </a:p>
        </p:txBody>
      </p:sp>
      <p:sp>
        <p:nvSpPr>
          <p:cNvPr id="113" name=""/>
          <p:cNvSpPr/>
          <p:nvPr/>
        </p:nvSpPr>
        <p:spPr>
          <a:xfrm>
            <a:off x="2484360" y="3860640"/>
            <a:ext cx="446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638"/>
                </a:solidFill>
                <a:latin typeface="Arial"/>
              </a:rPr>
              <a:t>In this AT solution for food storage and preservation, the water between a nested pair of clay pots evaporates, refrigerating the interior of the inner pot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95280" y="1916280"/>
            <a:ext cx="1695600" cy="30574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2268360" y="1052640"/>
            <a:ext cx="4353120" cy="27907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7164360" y="2565360"/>
            <a:ext cx="1523880" cy="1828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99BC6-3D1C-4C5C-B8E1-73CA2FF5343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c754f"/>
            </a:gs>
            <a:gs pos="100000">
              <a:srgbClr val="18605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4920" y="188640"/>
            <a:ext cx="89647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af18"/>
                </a:solidFill>
                <a:latin typeface="Papyrus"/>
              </a:rPr>
              <a:t>Whirlwind Wheelchairs</a:t>
            </a:r>
            <a:endParaRPr b="1" lang="en-US" sz="3600" spc="-1" strike="noStrike">
              <a:solidFill>
                <a:srgbClr val="ffaf18"/>
              </a:solidFill>
              <a:latin typeface="Papyru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79280" y="4581000"/>
            <a:ext cx="878544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63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638"/>
                </a:solidFill>
                <a:latin typeface="Arial"/>
              </a:rPr>
              <a:t>These chairs are locally produced, sometimes by users themselves, and use locally available parts and materials, e.g. from bicycles and ceiling fans. </a:t>
            </a:r>
            <a:endParaRPr b="0" lang="en-US" sz="3200" spc="-1" strike="noStrike">
              <a:solidFill>
                <a:srgbClr val="ffe638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258920" y="1197000"/>
            <a:ext cx="2171520" cy="31240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5076720" y="1700280"/>
            <a:ext cx="2971800" cy="2133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15A15-23DA-4FE6-B66B-034F224F62A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c754f"/>
            </a:gs>
            <a:gs pos="100000">
              <a:srgbClr val="18605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4920" y="189000"/>
            <a:ext cx="511344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af18"/>
                </a:solidFill>
                <a:latin typeface="Papyrus"/>
              </a:rPr>
              <a:t>Light Up the World: Solid State Lights</a:t>
            </a:r>
            <a:endParaRPr b="1" lang="en-US" sz="3600" spc="-1" strike="noStrike">
              <a:solidFill>
                <a:srgbClr val="ffaf18"/>
              </a:solidFill>
              <a:latin typeface="Papyru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341360"/>
            <a:ext cx="5905440" cy="31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e63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e638"/>
                </a:solidFill>
                <a:latin typeface="Arial"/>
              </a:rPr>
              <a:t>The NGO </a:t>
            </a:r>
            <a:r>
              <a:rPr b="0" i="1" lang="en-GB" sz="2800" spc="-1" strike="noStrike">
                <a:solidFill>
                  <a:srgbClr val="ffe638"/>
                </a:solidFill>
                <a:latin typeface="Arial"/>
              </a:rPr>
              <a:t>Light Up The World </a:t>
            </a:r>
            <a:r>
              <a:rPr b="0" lang="en-GB" sz="2800" spc="-1" strike="noStrike">
                <a:solidFill>
                  <a:srgbClr val="ffe638"/>
                </a:solidFill>
                <a:latin typeface="Arial"/>
              </a:rPr>
              <a:t>has developed an AT lighting solution using very low power full-spectrum LEDs paired with solar or other appropriate power sources. Parts are shipped into each country for local assembly. They also provide local repair. </a:t>
            </a:r>
            <a:endParaRPr b="0" lang="en-US" sz="2800" spc="-1" strike="noStrike">
              <a:solidFill>
                <a:srgbClr val="ffe638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6227640" y="1557360"/>
            <a:ext cx="2438640" cy="18414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6227640" y="4508640"/>
            <a:ext cx="2514600" cy="18604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1547640" y="4724280"/>
            <a:ext cx="3048120" cy="1779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275CE-CD88-42E8-993E-139725CE650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c754f"/>
            </a:gs>
            <a:gs pos="100000">
              <a:srgbClr val="18605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5364000" y="4221000"/>
            <a:ext cx="3435480" cy="237996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4920" y="188640"/>
            <a:ext cx="89647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af18"/>
                </a:solidFill>
                <a:latin typeface="Papyrus"/>
              </a:rPr>
              <a:t>Grameen Phone</a:t>
            </a:r>
            <a:endParaRPr b="1" lang="en-US" sz="3600" spc="-1" strike="noStrike">
              <a:solidFill>
                <a:srgbClr val="ffaf18"/>
              </a:solidFill>
              <a:latin typeface="Papyru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79280" y="1196640"/>
            <a:ext cx="46087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e63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638"/>
                </a:solidFill>
                <a:latin typeface="Arial"/>
              </a:rPr>
              <a:t>This cell phone company uses micro-finance to bring service to rural Bangladesh, through village-level ownership of infrastructure. </a:t>
            </a:r>
            <a:endParaRPr b="0" lang="en-US" sz="2800" spc="-1" strike="noStrike">
              <a:solidFill>
                <a:srgbClr val="ffe63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e63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638"/>
                </a:solidFill>
                <a:latin typeface="Arial"/>
              </a:rPr>
              <a:t>Howard Guy invested 10 - 12 years of effort to get this service off the ground. </a:t>
            </a:r>
            <a:endParaRPr b="0" lang="en-US" sz="2800" spc="-1" strike="noStrike">
              <a:solidFill>
                <a:srgbClr val="ffe638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5003640" y="1341360"/>
            <a:ext cx="3899160" cy="2772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BAACB-E0EB-42F3-9277-DBDF0A00B65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c754f"/>
            </a:gs>
            <a:gs pos="100000">
              <a:srgbClr val="18605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af18"/>
                </a:solidFill>
                <a:latin typeface="Papyrus"/>
              </a:rPr>
              <a:t>Here is an example of intermediate technology becoming more appropriate</a:t>
            </a:r>
            <a:endParaRPr b="1" lang="en-US" sz="3600" spc="-1" strike="noStrike">
              <a:solidFill>
                <a:srgbClr val="ffaf18"/>
              </a:solidFill>
              <a:latin typeface="Papyru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CAAF9E-96C4-4009-9DF0-2D678BA82B4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c754f"/>
            </a:gs>
            <a:gs pos="100000">
              <a:srgbClr val="18605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4920" y="188640"/>
            <a:ext cx="89647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af18"/>
                </a:solidFill>
                <a:latin typeface="Papyrus"/>
              </a:rPr>
              <a:t>What is it like?</a:t>
            </a:r>
            <a:endParaRPr b="1" lang="en-US" sz="3600" spc="-1" strike="noStrike">
              <a:solidFill>
                <a:srgbClr val="ffaf18"/>
              </a:solidFill>
              <a:latin typeface="Papyru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78544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63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638"/>
                </a:solidFill>
                <a:latin typeface="Arial"/>
              </a:rPr>
              <a:t>Where you have TNC like Coco-cola, the factories are no different from anywhere else</a:t>
            </a:r>
            <a:endParaRPr b="0" lang="en-US" sz="3200" spc="-1" strike="noStrike">
              <a:solidFill>
                <a:srgbClr val="ffe63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63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638"/>
                </a:solidFill>
                <a:latin typeface="Arial"/>
              </a:rPr>
              <a:t>But as we saw, LEDCs do not have much secondary economic activity.</a:t>
            </a:r>
            <a:endParaRPr b="0" lang="en-US" sz="3200" spc="-1" strike="noStrike">
              <a:solidFill>
                <a:srgbClr val="ffe63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63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638"/>
                </a:solidFill>
                <a:latin typeface="Arial"/>
              </a:rPr>
              <a:t>A lot of what they need is still produced by hand with very few machines – if any</a:t>
            </a:r>
            <a:endParaRPr b="0" lang="en-US" sz="3200" spc="-1" strike="noStrike">
              <a:solidFill>
                <a:srgbClr val="ffe63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63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638"/>
                </a:solidFill>
                <a:latin typeface="Arial"/>
              </a:rPr>
              <a:t>But they have many needs, such as equipment for pumping and cleaning water, for example.</a:t>
            </a:r>
            <a:endParaRPr b="0" lang="en-US" sz="3200" spc="-1" strike="noStrike">
              <a:solidFill>
                <a:srgbClr val="ffe63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76FD0-985C-4850-89D1-340794597E5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c754f"/>
            </a:gs>
            <a:gs pos="100000">
              <a:srgbClr val="18605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4920" y="188640"/>
            <a:ext cx="89647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af18"/>
                </a:solidFill>
                <a:latin typeface="Papyrus"/>
              </a:rPr>
              <a:t>Fuel from the Fields Project (Charcoal Briquettes) – Haiti</a:t>
            </a:r>
            <a:r>
              <a:rPr b="1" lang="en-US" sz="3200" spc="-1" strike="noStrike">
                <a:solidFill>
                  <a:srgbClr val="ffaf18"/>
                </a:solidFill>
                <a:latin typeface="Papyrus"/>
              </a:rPr>
              <a:t> </a:t>
            </a:r>
            <a:endParaRPr b="1" lang="en-US" sz="3200" spc="-1" strike="noStrike">
              <a:solidFill>
                <a:srgbClr val="ffaf18"/>
              </a:solidFill>
              <a:latin typeface="Papyru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597708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e63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638"/>
                </a:solidFill>
                <a:latin typeface="Arial"/>
              </a:rPr>
              <a:t>Background</a:t>
            </a:r>
            <a:endParaRPr b="0" lang="en-US" sz="2800" spc="-1" strike="noStrike">
              <a:solidFill>
                <a:srgbClr val="ffe63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e63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638"/>
                </a:solidFill>
                <a:latin typeface="Arial"/>
              </a:rPr>
              <a:t>The charcoal briquettes project began in Haiti, evolved out of student interest in addressing trash disposal.</a:t>
            </a:r>
            <a:endParaRPr b="0" lang="en-US" sz="2800" spc="-1" strike="noStrike">
              <a:solidFill>
                <a:srgbClr val="ffe63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e63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638"/>
                </a:solidFill>
                <a:latin typeface="Arial"/>
              </a:rPr>
              <a:t>Haiti is 98% deforested.</a:t>
            </a:r>
            <a:endParaRPr b="0" lang="en-US" sz="2800" spc="-1" strike="noStrike">
              <a:solidFill>
                <a:srgbClr val="ffe63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e63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638"/>
                </a:solidFill>
                <a:latin typeface="Arial"/>
              </a:rPr>
              <a:t>Charcoal is the primary cooking fuel. In the traditional charcoal-making process, you set fire to a pile of wood and then bury it to restrict the oxygen, thus slowing the burn. </a:t>
            </a:r>
            <a:endParaRPr b="0" lang="en-US" sz="2800" spc="-1" strike="noStrike">
              <a:solidFill>
                <a:srgbClr val="ffe63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e63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638"/>
                </a:solidFill>
                <a:latin typeface="Arial"/>
              </a:rPr>
              <a:t>Charcoal is sold in large bags. </a:t>
            </a:r>
            <a:endParaRPr b="0" lang="en-US" sz="2800" spc="-1" strike="noStrike">
              <a:solidFill>
                <a:srgbClr val="ffe638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012000" y="1052640"/>
            <a:ext cx="2952720" cy="19620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6300720" y="3068640"/>
            <a:ext cx="2556000" cy="16876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6300720" y="4797360"/>
            <a:ext cx="2448000" cy="1809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06D81-9B05-4273-ACCE-B85F572F364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c754f"/>
            </a:gs>
            <a:gs pos="100000">
              <a:srgbClr val="18605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4920" y="188640"/>
            <a:ext cx="89647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af18"/>
                </a:solidFill>
                <a:latin typeface="Papyrus"/>
              </a:rPr>
              <a:t>The Original Project – Briquettes from Waste Paper</a:t>
            </a:r>
            <a:endParaRPr b="1" lang="en-US" sz="3200" spc="-1" strike="noStrike">
              <a:solidFill>
                <a:srgbClr val="ffaf18"/>
              </a:solidFill>
              <a:latin typeface="Papyru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86407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63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638"/>
                </a:solidFill>
                <a:latin typeface="Arial"/>
              </a:rPr>
              <a:t>The briquette starts with paper pulp.</a:t>
            </a:r>
            <a:endParaRPr b="0" lang="en-US" sz="3200" spc="-1" strike="noStrike">
              <a:solidFill>
                <a:srgbClr val="ffe63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63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638"/>
                </a:solidFill>
                <a:latin typeface="Arial"/>
              </a:rPr>
              <a:t>A hydraulic press made from a car jack compresses the pulp into a small disk.</a:t>
            </a:r>
            <a:endParaRPr b="0" lang="en-US" sz="3200" spc="-1" strike="noStrike">
              <a:solidFill>
                <a:srgbClr val="ffe638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042920" y="3860640"/>
            <a:ext cx="3384720" cy="25369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4932360" y="4005360"/>
            <a:ext cx="3095640" cy="232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2DE4C-12FB-48E8-8D38-F76F4A770DF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c754f"/>
            </a:gs>
            <a:gs pos="100000">
              <a:srgbClr val="18605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643280" y="259920"/>
            <a:ext cx="43164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e63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638"/>
                </a:solidFill>
                <a:latin typeface="Arial"/>
              </a:rPr>
              <a:t>After the initial test, the D-Lab team made some improvements to the press to make it easier to use and more productive </a:t>
            </a:r>
            <a:endParaRPr b="0" lang="en-US" sz="2800" spc="-1" strike="noStrike">
              <a:solidFill>
                <a:srgbClr val="ffe63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d181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d181e"/>
                </a:solidFill>
                <a:latin typeface="Arial"/>
              </a:rPr>
              <a:t>HOWEVER</a:t>
            </a:r>
            <a:r>
              <a:rPr b="0" lang="en-US" sz="2800" spc="-1" strike="noStrike">
                <a:solidFill>
                  <a:srgbClr val="ffe638"/>
                </a:solidFill>
                <a:latin typeface="Arial"/>
              </a:rPr>
              <a:t> – the improved press didn’t address a more fundamental problem:– the briquettes didn’t burn easily and required training to use properly!</a:t>
            </a:r>
            <a:endParaRPr b="0" lang="en-US" sz="2800" spc="-1" strike="noStrike">
              <a:solidFill>
                <a:srgbClr val="ffe638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78920" y="259920"/>
            <a:ext cx="252108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169560" indent="-169560">
              <a:spcBef>
                <a:spcPts val="601"/>
              </a:spcBef>
              <a:buClr>
                <a:srgbClr val="ffe63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638"/>
                </a:solidFill>
                <a:latin typeface="Arial"/>
              </a:rPr>
              <a:t>Original Design</a:t>
            </a:r>
            <a:endParaRPr b="0" lang="en-US" sz="2400" spc="-1" strike="noStrike">
              <a:solidFill>
                <a:srgbClr val="ffe638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ffe63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e638"/>
                </a:solidFill>
                <a:latin typeface="Arial"/>
              </a:rPr>
              <a:t>$100</a:t>
            </a:r>
            <a:endParaRPr b="0" lang="en-US" sz="2000" spc="-1" strike="noStrike">
              <a:solidFill>
                <a:srgbClr val="ffe638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ffe63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e638"/>
                </a:solidFill>
                <a:latin typeface="Arial"/>
              </a:rPr>
              <a:t>Requires 3 people to operate</a:t>
            </a:r>
            <a:endParaRPr b="0" lang="en-US" sz="2000" spc="-1" strike="noStrike">
              <a:solidFill>
                <a:srgbClr val="ffe638"/>
              </a:solidFill>
              <a:latin typeface="Arial"/>
            </a:endParaRPr>
          </a:p>
          <a:p>
            <a:pPr marL="169560" indent="-169560">
              <a:spcBef>
                <a:spcPts val="601"/>
              </a:spcBef>
              <a:buClr>
                <a:srgbClr val="ffe63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638"/>
                </a:solidFill>
                <a:latin typeface="Arial"/>
              </a:rPr>
              <a:t>Improvements</a:t>
            </a:r>
            <a:endParaRPr b="0" lang="en-US" sz="2400" spc="-1" strike="noStrike">
              <a:solidFill>
                <a:srgbClr val="ffe638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ffe63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e638"/>
                </a:solidFill>
                <a:latin typeface="Arial"/>
              </a:rPr>
              <a:t>Bracing makes press safer and easier to use </a:t>
            </a:r>
            <a:endParaRPr b="0" lang="en-US" sz="2000" spc="-1" strike="noStrike">
              <a:solidFill>
                <a:srgbClr val="ffe638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ffe63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e638"/>
                </a:solidFill>
                <a:latin typeface="Arial"/>
              </a:rPr>
              <a:t>Improved process to eject briquettes </a:t>
            </a:r>
            <a:endParaRPr b="0" lang="en-US" sz="2000" spc="-1" strike="noStrike">
              <a:solidFill>
                <a:srgbClr val="ffe638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ffe63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e638"/>
                </a:solidFill>
                <a:latin typeface="Arial"/>
              </a:rPr>
              <a:t>Throughput increased to 2 briquettes/minute </a:t>
            </a:r>
            <a:endParaRPr b="0" lang="en-US" sz="2000" spc="-1" strike="noStrike">
              <a:solidFill>
                <a:srgbClr val="ffe638"/>
              </a:solidFill>
              <a:latin typeface="Arial"/>
            </a:endParaRPr>
          </a:p>
          <a:p>
            <a:pPr marL="1695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e638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627280" y="1557360"/>
            <a:ext cx="1984320" cy="3887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3B4B2-3350-4DBE-84C2-9E884EF5C87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c754f"/>
            </a:gs>
            <a:gs pos="100000">
              <a:srgbClr val="18605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4920" y="188640"/>
            <a:ext cx="89647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af18"/>
                </a:solidFill>
                <a:latin typeface="Papyrus"/>
              </a:rPr>
              <a:t>Search for Better Fuel: Sugar Cane Waste</a:t>
            </a:r>
            <a:endParaRPr b="1" lang="en-US" sz="3200" spc="-1" strike="noStrike">
              <a:solidFill>
                <a:srgbClr val="ffaf18"/>
              </a:solidFill>
              <a:latin typeface="Papyru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78544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e63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638"/>
                </a:solidFill>
                <a:latin typeface="Arial"/>
              </a:rPr>
              <a:t>The team looked for other fuel sources, and came upon waste sugar cane.</a:t>
            </a:r>
            <a:endParaRPr b="0" lang="en-US" sz="2400" spc="-1" strike="noStrike">
              <a:solidFill>
                <a:srgbClr val="ffe63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e63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638"/>
                </a:solidFill>
                <a:latin typeface="Arial"/>
              </a:rPr>
              <a:t>After sugar is extracted from the sugar cane, farmers are left with huge piles of waste sugar cane stalks. </a:t>
            </a:r>
            <a:endParaRPr b="0" lang="en-US" sz="2400" spc="-1" strike="noStrike">
              <a:solidFill>
                <a:srgbClr val="ffe63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e63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638"/>
                </a:solidFill>
                <a:latin typeface="Arial"/>
              </a:rPr>
              <a:t>Traditionally the waste has been burned, simply to dispose of it.</a:t>
            </a:r>
            <a:endParaRPr b="0" lang="en-US" sz="2400" spc="-1" strike="noStrike">
              <a:solidFill>
                <a:srgbClr val="ffe63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e63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638"/>
                </a:solidFill>
                <a:latin typeface="Arial"/>
              </a:rPr>
              <a:t>The team brought sample of cane back to the lab for tests.</a:t>
            </a:r>
            <a:endParaRPr b="0" lang="en-US" sz="2400" spc="-1" strike="noStrike">
              <a:solidFill>
                <a:srgbClr val="ffe63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e63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638"/>
                </a:solidFill>
                <a:latin typeface="Arial"/>
              </a:rPr>
              <a:t>One of the issues was how to form the cane into a shaped, compressed briquette. </a:t>
            </a:r>
            <a:endParaRPr b="0" lang="en-US" sz="2400" spc="-1" strike="noStrike">
              <a:solidFill>
                <a:srgbClr val="ffe63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e63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638"/>
                </a:solidFill>
                <a:latin typeface="Arial"/>
              </a:rPr>
              <a:t>It was found that  that a sticky cassava porridge binds well to the sugar cane.</a:t>
            </a:r>
            <a:endParaRPr b="0" lang="en-US" sz="2400" spc="-1" strike="noStrike">
              <a:solidFill>
                <a:srgbClr val="ffe63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e63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638"/>
                </a:solidFill>
                <a:latin typeface="Arial"/>
              </a:rPr>
              <a:t>The sugar cane briquettes seemed easier to use (and thus more Appropriate) than paper-based briquettes and they burned well.</a:t>
            </a:r>
            <a:endParaRPr b="0" lang="en-US" sz="2400" spc="-1" strike="noStrike">
              <a:solidFill>
                <a:srgbClr val="ffe63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94A5F-5AE8-421F-9D7E-A78B5DFB54D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c754f"/>
            </a:gs>
            <a:gs pos="100000">
              <a:srgbClr val="18605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4920" y="188640"/>
            <a:ext cx="89647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af18"/>
                </a:solidFill>
                <a:latin typeface="Papyrus"/>
              </a:rPr>
              <a:t>But this would only be appropriate where there was sugarcane waste</a:t>
            </a:r>
            <a:endParaRPr b="1" lang="en-US" sz="3200" spc="-1" strike="noStrike">
              <a:solidFill>
                <a:srgbClr val="ffaf18"/>
              </a:solidFill>
              <a:latin typeface="Papyru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78544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63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638"/>
                </a:solidFill>
                <a:latin typeface="Arial"/>
              </a:rPr>
              <a:t>Sugar cane can only be a solution where sugar cane grows. </a:t>
            </a:r>
            <a:endParaRPr b="0" lang="en-US" sz="3200" spc="-1" strike="noStrike">
              <a:solidFill>
                <a:srgbClr val="ffe63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63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638"/>
                </a:solidFill>
                <a:latin typeface="Arial"/>
              </a:rPr>
              <a:t>In India, other locally available materials like cow dung are the cooking fuel of choice. </a:t>
            </a:r>
            <a:endParaRPr b="0" lang="en-US" sz="3200" spc="-1" strike="noStrike">
              <a:solidFill>
                <a:srgbClr val="ffe63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63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638"/>
                </a:solidFill>
                <a:latin typeface="Arial"/>
              </a:rPr>
              <a:t>Cow dung is “very smoky,” so another D-Lab project in 2003 looked at combining some less-smoky material (i.e. rice straw or wheat straw) with a cow dung “binder.” </a:t>
            </a:r>
            <a:endParaRPr b="0" lang="en-US" sz="3200" spc="-1" strike="noStrike">
              <a:solidFill>
                <a:srgbClr val="ffe63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638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e63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4F9EC-DFCD-4499-91C0-3CC7F558E3B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c754f"/>
            </a:gs>
            <a:gs pos="100000">
              <a:srgbClr val="18605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01600" y="125280"/>
            <a:ext cx="87631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af18"/>
                </a:solidFill>
                <a:latin typeface="Papyrus"/>
              </a:rPr>
              <a:t>Guiding Principles for D-Lab</a:t>
            </a:r>
            <a:endParaRPr b="1" lang="en-US" sz="3600" spc="-1" strike="noStrike">
              <a:solidFill>
                <a:srgbClr val="ffaf18"/>
              </a:solidFill>
              <a:latin typeface="Papyru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447560" y="1980720"/>
            <a:ext cx="7010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63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638"/>
                </a:solidFill>
                <a:latin typeface="Arial"/>
              </a:rPr>
              <a:t>Identify functional requirements</a:t>
            </a:r>
            <a:endParaRPr b="0" lang="en-US" sz="3200" spc="-1" strike="noStrike">
              <a:solidFill>
                <a:srgbClr val="ffe63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63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638"/>
                </a:solidFill>
                <a:latin typeface="Arial"/>
              </a:rPr>
              <a:t>Encourage participatory development</a:t>
            </a:r>
            <a:endParaRPr b="0" lang="en-US" sz="3200" spc="-1" strike="noStrike">
              <a:solidFill>
                <a:srgbClr val="ffe63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63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638"/>
                </a:solidFill>
                <a:latin typeface="Arial"/>
              </a:rPr>
              <a:t>Value indigenous knowledge</a:t>
            </a:r>
            <a:endParaRPr b="0" lang="en-US" sz="3200" spc="-1" strike="noStrike">
              <a:solidFill>
                <a:srgbClr val="ffe63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63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638"/>
                </a:solidFill>
                <a:latin typeface="Arial"/>
              </a:rPr>
              <a:t>Promote local innovation</a:t>
            </a:r>
            <a:endParaRPr b="0" lang="en-US" sz="3200" spc="-1" strike="noStrike">
              <a:solidFill>
                <a:srgbClr val="ffe63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63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638"/>
                </a:solidFill>
                <a:latin typeface="Arial"/>
              </a:rPr>
              <a:t>Strive for sustainability </a:t>
            </a:r>
            <a:endParaRPr b="0" lang="en-US" sz="3200" spc="-1" strike="noStrike">
              <a:solidFill>
                <a:srgbClr val="ffe63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A478F-723C-4271-8202-1B31296F0BE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c754f"/>
            </a:gs>
            <a:gs pos="100000">
              <a:srgbClr val="18605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4920" y="188640"/>
            <a:ext cx="89647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af18"/>
                </a:solidFill>
                <a:latin typeface="Papyrus"/>
              </a:rPr>
              <a:t>What is it like?</a:t>
            </a:r>
            <a:endParaRPr b="1" lang="en-US" sz="3600" spc="-1" strike="noStrike">
              <a:solidFill>
                <a:srgbClr val="ffaf18"/>
              </a:solidFill>
              <a:latin typeface="Papyru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78544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63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638"/>
                </a:solidFill>
                <a:latin typeface="Arial"/>
              </a:rPr>
              <a:t>To start off with, NGO’s like OXFAM and CATHOD went in when there was a famine or floods or some other natural disaster and provided food and shelter in an emergency.</a:t>
            </a:r>
            <a:endParaRPr b="0" lang="en-US" sz="3200" spc="-1" strike="noStrike">
              <a:solidFill>
                <a:srgbClr val="ffe63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63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638"/>
                </a:solidFill>
                <a:latin typeface="Arial"/>
              </a:rPr>
              <a:t>But as time went on, they realized that these people needed long term solutions to problems like fresh water, building materials and cooking and food processing</a:t>
            </a:r>
            <a:endParaRPr b="0" lang="en-US" sz="3200" spc="-1" strike="noStrike">
              <a:solidFill>
                <a:srgbClr val="ffe63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63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638"/>
                </a:solidFill>
                <a:latin typeface="Arial"/>
              </a:rPr>
              <a:t>The solutions needed to be local, cheap and sustainable.</a:t>
            </a:r>
            <a:endParaRPr b="0" lang="en-US" sz="3200" spc="-1" strike="noStrike">
              <a:solidFill>
                <a:srgbClr val="ffe63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58718-5634-4FC2-953A-92B32537767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c754f"/>
            </a:gs>
            <a:gs pos="100000">
              <a:srgbClr val="18605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4920" y="188640"/>
            <a:ext cx="89647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af18"/>
                </a:solidFill>
                <a:latin typeface="Papyrus"/>
              </a:rPr>
              <a:t>Out of these Needs came New Ideas</a:t>
            </a:r>
            <a:endParaRPr b="1" lang="en-US" sz="3600" spc="-1" strike="noStrike">
              <a:solidFill>
                <a:srgbClr val="ffaf18"/>
              </a:solidFill>
              <a:latin typeface="Papyru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78544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e63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638"/>
                </a:solidFill>
                <a:latin typeface="Arial"/>
              </a:rPr>
              <a:t>Some called these new ideas ‘Intermediate Technology’</a:t>
            </a:r>
            <a:endParaRPr b="0" lang="en-US" sz="3200" spc="-1" strike="noStrike">
              <a:solidFill>
                <a:srgbClr val="ffe638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e63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638"/>
                </a:solidFill>
                <a:latin typeface="Arial"/>
              </a:rPr>
              <a:t>The idea was that currently there was</a:t>
            </a:r>
            <a:endParaRPr b="0" lang="en-US" sz="3200" spc="-1" strike="noStrike">
              <a:solidFill>
                <a:srgbClr val="ffe638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e63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638"/>
                </a:solidFill>
                <a:latin typeface="Arial"/>
              </a:rPr>
              <a:t>Indigenous technology – meaning locally created, mostly carried out by hand, very slow</a:t>
            </a:r>
            <a:endParaRPr b="0" lang="en-US" sz="3200" spc="-1" strike="noStrike">
              <a:solidFill>
                <a:srgbClr val="ffe638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e63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638"/>
                </a:solidFill>
                <a:latin typeface="Arial"/>
              </a:rPr>
              <a:t>Or there could be</a:t>
            </a:r>
            <a:endParaRPr b="0" lang="en-US" sz="3200" spc="-1" strike="noStrike">
              <a:solidFill>
                <a:srgbClr val="ffe638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e63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638"/>
                </a:solidFill>
                <a:latin typeface="Arial"/>
              </a:rPr>
              <a:t>Industrial technology – western ideas – large, expensive and highly mechanised</a:t>
            </a:r>
            <a:endParaRPr b="0" lang="en-US" sz="3200" spc="-1" strike="noStrike">
              <a:solidFill>
                <a:srgbClr val="ffe638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e63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638"/>
                </a:solidFill>
                <a:latin typeface="Arial"/>
              </a:rPr>
              <a:t>But there maybe there could be Intermediate that fitted in the middle</a:t>
            </a:r>
            <a:endParaRPr b="0" lang="en-US" sz="3200" spc="-1" strike="noStrike">
              <a:solidFill>
                <a:srgbClr val="ffe63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5C4D1-E527-4EF8-AF4D-2026C490941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c754f"/>
            </a:gs>
            <a:gs pos="100000">
              <a:srgbClr val="18605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4920" y="188640"/>
            <a:ext cx="89647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af18"/>
                </a:solidFill>
                <a:latin typeface="Papyrus"/>
              </a:rPr>
              <a:t>Grain Milling, for example</a:t>
            </a:r>
            <a:endParaRPr b="1" lang="en-US" sz="3600" spc="-1" strike="noStrike">
              <a:solidFill>
                <a:srgbClr val="ffaf18"/>
              </a:solidFill>
              <a:latin typeface="Papyru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511344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e63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e638"/>
                </a:solidFill>
                <a:latin typeface="Arial"/>
              </a:rPr>
              <a:t>With the </a:t>
            </a:r>
            <a:r>
              <a:rPr b="1" lang="en-GB" sz="2800" spc="-1" strike="noStrike">
                <a:solidFill>
                  <a:srgbClr val="ed181e"/>
                </a:solidFill>
                <a:latin typeface="Arial"/>
              </a:rPr>
              <a:t>indigenous</a:t>
            </a:r>
            <a:r>
              <a:rPr b="0" lang="en-GB" sz="2800" spc="-1" strike="noStrike">
                <a:solidFill>
                  <a:srgbClr val="ffe638"/>
                </a:solidFill>
                <a:latin typeface="Arial"/>
              </a:rPr>
              <a:t> grain processing techniques found in many African cultures, women may spend many hours every day pounding grains by hand.</a:t>
            </a:r>
            <a:endParaRPr b="0" lang="en-US" sz="2800" spc="-1" strike="noStrike">
              <a:solidFill>
                <a:srgbClr val="ffe63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e63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638"/>
                </a:solidFill>
                <a:latin typeface="Arial"/>
              </a:rPr>
              <a:t>Takes about 1 - 3 hours every day to  grind grain for their families</a:t>
            </a:r>
            <a:endParaRPr b="0" lang="en-US" sz="2800" spc="-1" strike="noStrike">
              <a:solidFill>
                <a:srgbClr val="ffe63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e63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638"/>
                </a:solidFill>
                <a:latin typeface="Arial"/>
              </a:rPr>
              <a:t>Costs less than $5 for equipment</a:t>
            </a:r>
            <a:endParaRPr b="0" lang="en-US" sz="2800" spc="-1" strike="noStrike">
              <a:solidFill>
                <a:srgbClr val="ffe638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5508720" y="1268280"/>
            <a:ext cx="2933640" cy="4419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64BE6-F192-420D-86FD-620E04F3E54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c754f"/>
            </a:gs>
            <a:gs pos="100000">
              <a:srgbClr val="18605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4920" y="188640"/>
            <a:ext cx="89647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af18"/>
                </a:solidFill>
                <a:latin typeface="Papyrus"/>
              </a:rPr>
              <a:t>Grain Milling, for example</a:t>
            </a:r>
            <a:endParaRPr b="1" lang="en-US" sz="3600" spc="-1" strike="noStrike">
              <a:solidFill>
                <a:srgbClr val="ffaf18"/>
              </a:solidFill>
              <a:latin typeface="Papyru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482436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e63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e638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ed181e"/>
                </a:solidFill>
                <a:latin typeface="Arial"/>
              </a:rPr>
              <a:t>industrial</a:t>
            </a:r>
            <a:r>
              <a:rPr b="0" lang="en-GB" sz="2800" spc="-1" strike="noStrike">
                <a:solidFill>
                  <a:srgbClr val="ffe638"/>
                </a:solidFill>
                <a:latin typeface="Arial"/>
              </a:rPr>
              <a:t> solution is a conventional commercial grain mill, which can grind this much grain in a few seconds. </a:t>
            </a:r>
            <a:endParaRPr b="0" lang="en-US" sz="2800" spc="-1" strike="noStrike">
              <a:solidFill>
                <a:srgbClr val="ffe63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e63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638"/>
                </a:solidFill>
                <a:latin typeface="Arial"/>
              </a:rPr>
              <a:t>Takes about 10 seconds to grind the grain for a family for one day</a:t>
            </a:r>
            <a:endParaRPr b="0" lang="en-US" sz="2800" spc="-1" strike="noStrike">
              <a:solidFill>
                <a:srgbClr val="ffe63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e63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638"/>
                </a:solidFill>
                <a:latin typeface="Arial"/>
              </a:rPr>
              <a:t>Costs abut $8,000</a:t>
            </a:r>
            <a:endParaRPr b="0" lang="en-US" sz="2800" spc="-1" strike="noStrike">
              <a:solidFill>
                <a:srgbClr val="ffe63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e63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638"/>
                </a:solidFill>
                <a:latin typeface="Arial"/>
              </a:rPr>
              <a:t>Far too expensive and too efficient for a village to share</a:t>
            </a:r>
            <a:endParaRPr b="0" lang="en-US" sz="2800" spc="-1" strike="noStrike">
              <a:solidFill>
                <a:srgbClr val="ffe638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859280" y="1989000"/>
            <a:ext cx="3809880" cy="3380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0DD21-F300-48B8-9911-DFD4D620A23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c754f"/>
            </a:gs>
            <a:gs pos="100000">
              <a:srgbClr val="18605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4920" y="188640"/>
            <a:ext cx="89647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af18"/>
                </a:solidFill>
                <a:latin typeface="Papyrus"/>
              </a:rPr>
              <a:t>Grain Milling, for example</a:t>
            </a:r>
            <a:endParaRPr b="1" lang="en-US" sz="3600" spc="-1" strike="noStrike">
              <a:solidFill>
                <a:srgbClr val="ffaf18"/>
              </a:solidFill>
              <a:latin typeface="Papyru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525636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e63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638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ed181e"/>
                </a:solidFill>
                <a:latin typeface="Arial"/>
              </a:rPr>
              <a:t>intermediate</a:t>
            </a:r>
            <a:r>
              <a:rPr b="0" lang="en-US" sz="2800" spc="-1" strike="noStrike">
                <a:solidFill>
                  <a:srgbClr val="ffe638"/>
                </a:solidFill>
                <a:latin typeface="Arial"/>
              </a:rPr>
              <a:t> technology solution for grain milling is a small mill operated by a local entrepreneur or co-op </a:t>
            </a:r>
            <a:endParaRPr b="0" lang="en-US" sz="2800" spc="-1" strike="noStrike">
              <a:solidFill>
                <a:srgbClr val="ffe63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e63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638"/>
                </a:solidFill>
                <a:latin typeface="Arial"/>
              </a:rPr>
              <a:t>This is an Amy Smith’s hammer mill. </a:t>
            </a:r>
            <a:endParaRPr b="0" lang="en-US" sz="2800" spc="-1" strike="noStrike">
              <a:solidFill>
                <a:srgbClr val="ffe63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e63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638"/>
                </a:solidFill>
                <a:latin typeface="Arial"/>
              </a:rPr>
              <a:t>It’s nearly as fast as the industrial solution, grinding a day’s worth of grain in about 1 - 3 minutes for a family for one day</a:t>
            </a:r>
            <a:endParaRPr b="0" lang="en-US" sz="2800" spc="-1" strike="noStrike">
              <a:solidFill>
                <a:srgbClr val="ffe63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e63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638"/>
                </a:solidFill>
                <a:latin typeface="Arial"/>
              </a:rPr>
              <a:t>Costs abut $500</a:t>
            </a:r>
            <a:endParaRPr b="0" lang="en-US" sz="2800" spc="-1" strike="noStrike">
              <a:solidFill>
                <a:srgbClr val="ffe638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5580000" y="1413000"/>
            <a:ext cx="2957400" cy="4495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BAE75-78AE-461E-BB37-58A1ADA66C3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c754f"/>
            </a:gs>
            <a:gs pos="100000">
              <a:srgbClr val="18605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4920" y="188640"/>
            <a:ext cx="89647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af18"/>
                </a:solidFill>
                <a:latin typeface="Papyrus"/>
              </a:rPr>
              <a:t>Water collection</a:t>
            </a:r>
            <a:endParaRPr b="1" lang="en-US" sz="3600" spc="-1" strike="noStrike">
              <a:solidFill>
                <a:srgbClr val="ffaf18"/>
              </a:solidFill>
              <a:latin typeface="Papyru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324036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e63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638"/>
                </a:solidFill>
                <a:latin typeface="Arial"/>
              </a:rPr>
              <a:t>In many regions the </a:t>
            </a:r>
            <a:r>
              <a:rPr b="1" lang="en-US" sz="2400" spc="-1" strike="noStrike">
                <a:solidFill>
                  <a:srgbClr val="ed181e"/>
                </a:solidFill>
                <a:latin typeface="Arial"/>
              </a:rPr>
              <a:t>indigenous </a:t>
            </a:r>
            <a:r>
              <a:rPr b="0" lang="en-US" sz="2400" spc="-1" strike="noStrike">
                <a:solidFill>
                  <a:srgbClr val="ffe638"/>
                </a:solidFill>
                <a:latin typeface="Arial"/>
              </a:rPr>
              <a:t>for water collection requires women to carry jugs of water many hundreds of meters to several kilometres. </a:t>
            </a:r>
            <a:endParaRPr b="0" lang="en-US" sz="2400" spc="-1" strike="noStrike">
              <a:solidFill>
                <a:srgbClr val="ffe63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e63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638"/>
                </a:solidFill>
                <a:latin typeface="Arial"/>
              </a:rPr>
              <a:t>Obviously the time and effort required is a drain on other things they might be doing. </a:t>
            </a:r>
            <a:endParaRPr b="0" lang="en-US" sz="2400" spc="-1" strike="noStrike">
              <a:solidFill>
                <a:srgbClr val="ffe638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564000" y="981000"/>
            <a:ext cx="5195880" cy="3444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09855-0B53-4A1F-B342-FCE10BC115B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c754f"/>
            </a:gs>
            <a:gs pos="100000">
              <a:srgbClr val="18605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4920" y="188640"/>
            <a:ext cx="89647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af18"/>
                </a:solidFill>
                <a:latin typeface="Papyrus"/>
              </a:rPr>
              <a:t>Water collection</a:t>
            </a:r>
            <a:endParaRPr b="1" lang="en-US" sz="3600" spc="-1" strike="noStrike">
              <a:solidFill>
                <a:srgbClr val="ffaf18"/>
              </a:solidFill>
              <a:latin typeface="Papyru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331308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e63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638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ed181e"/>
                </a:solidFill>
                <a:latin typeface="Arial"/>
              </a:rPr>
              <a:t>industrial</a:t>
            </a:r>
            <a:r>
              <a:rPr b="0" lang="en-US" sz="2800" spc="-1" strike="noStrike">
                <a:solidFill>
                  <a:srgbClr val="ffe638"/>
                </a:solidFill>
                <a:latin typeface="Arial"/>
              </a:rPr>
              <a:t> solution for water collection is classic “big development.” </a:t>
            </a:r>
            <a:endParaRPr b="0" lang="en-US" sz="2800" spc="-1" strike="noStrike">
              <a:solidFill>
                <a:srgbClr val="ffe63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e63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638"/>
                </a:solidFill>
                <a:latin typeface="Arial"/>
              </a:rPr>
              <a:t>Dams and associated infrastructure cost many millions of dollars, and operate on a scale that may create other environmental or social issues. </a:t>
            </a:r>
            <a:endParaRPr b="0" lang="en-US" sz="2800" spc="-1" strike="noStrike">
              <a:solidFill>
                <a:srgbClr val="ffe63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492360" y="981000"/>
            <a:ext cx="5332680" cy="3729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D1A35-8BB9-4C18-B4FB-7F36584BDFA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2T16:23:26Z</dcterms:created>
  <dc:creator>Lindy</dc:creator>
  <dc:description/>
  <dc:language>en-US</dc:language>
  <cp:lastModifiedBy>Lindy</cp:lastModifiedBy>
  <cp:lastPrinted>2003-09-03T16:46:25Z</cp:lastPrinted>
  <dcterms:modified xsi:type="dcterms:W3CDTF">2009-03-23T11:35:26Z</dcterms:modified>
  <cp:revision>13</cp:revision>
  <dc:subject/>
  <dc:title>Is Secondary Economic Activity different in LEDCs?</dc:title>
</cp:coreProperties>
</file>